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DAC2-111D-409C-B1CD-6420DD974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D2D0-8F05-44F5-B385-0FA1ED1D4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BFAD-5B43-4741-BF77-12E9A1037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29F2-659A-41B3-B61C-1964519ED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9AC3-ECC9-4F30-9C1F-C09CCEF17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273A-99CC-42DC-AA84-8DC152AFF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86BB-27E2-4870-BED0-E12ADBE5F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2815-EE03-471F-86AC-6506B282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98CB-3E20-4F7E-8F9E-80B33D155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FC14-2639-4F74-8374-7230CEE36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A8D7-1DFC-4B48-A75A-01754AD64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922F-6206-4121-8FE4-C64C0C6B0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.3-</a:t>
            </a:r>
            <a:fld id="{43292115-6A10-4FE0-A186-5A08226A85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815652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ción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learned about present particip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udian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Both Spanish and English have past participles. The past participles of English verbs often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turn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ur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but many are also irregul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uy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rive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60956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BEB8-54FE-4803-AB5C-9947B7775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reg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form the past participl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Reg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form the past participl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13000" y="3238560"/>
            <a:ext cx="6316560" cy="177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9E00-3A90-4167-AC2F-B5D834849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¡Atenció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ast particip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hose ste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 written accent mar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85880" y="4245120"/>
            <a:ext cx="5772240" cy="22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59040" y="2949480"/>
            <a:ext cx="5387760" cy="12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06F4-579F-427D-ADEC-530357D91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as in English, past participles can be used as adjectives. They are often used with the ver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a condition or state that results from an action. Like other Spanish adjectives, they must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4564080"/>
            <a:ext cx="7315200" cy="12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D790-CF95-4478-A650-9C04DF9C0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1640" y="1424160"/>
            <a:ext cx="214812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14440" y="2179800"/>
          <a:ext cx="8066160" cy="324936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689560"/>
              </a:tblGrid>
              <a:tr h="1097640">
                <a:tc gridSpan="3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 forma correcta del participio pasado de estos verb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26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ablar 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b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decidi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romp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scribi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anta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í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tra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correr 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le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v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hac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848240" y="3395520"/>
            <a:ext cx="1262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habl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92E7-13A7-4F19-9948-F551E0154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43:27Z</dcterms:modified>
  <cp:revision>74</cp:revision>
  <dc:subject/>
  <dc:title>PowerPoint Presentation</dc:title>
</cp:coreProperties>
</file>